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28.wmf" ContentType="image/x-wmf"/>
  <Override PartName="/ppt/media/image27.png" ContentType="image/png"/>
  <Override PartName="/ppt/media/image29.png" ContentType="image/png"/>
  <Override PartName="/ppt/media/image1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4C3-50DF-4C95-9E1F-3F7E5109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DA4-FBB4-4B1F-AF09-326A1D14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84D-F1EE-4F70-B57E-6E29305C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FB4-8B40-4A6A-B594-8950E1A9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2B3-FA29-4AB3-BEB7-590E9CA0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8D1-7CCF-450B-93CE-784EAC9C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EB3-A67C-4FD4-8FD8-AE525C6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7AD-2972-4B4F-B51E-46F3B03F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C8F-08A8-4BEC-852D-AE9F26E0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E7A-85A5-4D80-9D85-9CBB781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A93-748A-4289-BF74-BC7A7BBE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728-D945-4E87-9B2D-3B225417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88C6-A63C-49E7-92BA-0689E2B40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n/close-up%3Fo=765704&amp;memlevel=C&amp;a=c&amp;q=trombone&amp;s=1&amp;e=30&amp;show=&amp;c=&amp;cid=&amp;findincat=&amp;g=&amp;cc=&amp;page=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lipart.com/en/close-up?o=2913564&amp;memlevel=C&amp;a=c&amp;q=trumpet&amp;s=1&amp;e=30&amp;show=&amp;c=&amp;cid=&amp;findincat=&amp;g=&amp;cc=&amp;page=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clipart.com/en/close-up?o=2709765&amp;memlevel=C&amp;a=c&amp;q=clarinet&amp;s=1&amp;e=30&amp;show=&amp;c=&amp;cid=&amp;findincat=&amp;g=&amp;cc=&amp;page=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en/close-up%3Fo=765640&amp;memlevel=C&amp;a=c&amp;q=guitar&amp;s=1&amp;e=30&amp;show=&amp;c=&amp;cid=&amp;findincat=&amp;g=&amp;cc=&amp;page=" TargetMode="External"/><Relationship Id="rId3" Type="http://schemas.openxmlformats.org/officeDocument/2006/relationships/image" Target="../media/image12.png"/><Relationship Id="rId4" Type="http://schemas.openxmlformats.org/officeDocument/2006/relationships/hyperlink" Target="file:///en/close-up%3Fo=847173&amp;memlevel=A&amp;a=c&amp;q=electric%2520guitar&amp;s=1&amp;e=30&amp;show=&amp;c=&amp;cid=&amp;findincat=&amp;g=&amp;cc=&amp;page=" TargetMode="External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hyperlink" Target="http://clipart.com/en/close-up?o=2913567&amp;memlevel=C&amp;a=c&amp;q=violin&amp;s=61&amp;e=90&amp;show=&amp;c=&amp;cid=&amp;findincat=&amp;g=&amp;cc=&amp;page=3" TargetMode="External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hyperlink" Target="http://images.google.com/imgres?imgurl=http://www.metmuseum.org/toah/images/h2/h2_2003.216.1.jpg&amp;imgrefurl=http://www.metmuseum.org/toah/hd/guit/ho_2003.216.1.htm&amp;h=459&amp;w=300&amp;sz=56&amp;hl=en&amp;start=9&amp;tbnid=CAxVkooWq9V9XM:&amp;tbnh=128&amp;tbnw=84&amp;prev=/images%3Fq%3Dcuatro%2B%252B%2522musical%2Binstrument%2522%26gbv%3D2%26hl%3Den%26sa%3DG" TargetMode="External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Los instrumento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219320" y="2514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1" action="ppaction://hlinksldjump"/>
              </a:rPr>
              <a:t>- de m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143000" y="42670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2" action="ppaction://hlinksldjump"/>
              </a:rPr>
              <a:t>- de cuer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4952880" y="251460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3" action="ppaction://hlinksldjump"/>
              </a:rPr>
              <a:t>- de v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876920" y="419112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4" action="ppaction://hlinksldjump"/>
              </a:rPr>
              <a:t>- de per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tbone">
            <a:hlinkClick r:id="rId1"/>
          </p:cNvPr>
          <p:cNvPicPr/>
          <p:nvPr/>
        </p:nvPicPr>
        <p:blipFill>
          <a:blip r:embed="rId2"/>
          <a:stretch/>
        </p:blipFill>
        <p:spPr>
          <a:xfrm rot="19825200">
            <a:off x="985320" y="1082160"/>
            <a:ext cx="1828800" cy="20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trumpe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172404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joann\Pictures\Microsoft Clip Organizer\j0234523.wmf"/>
          <p:cNvPicPr/>
          <p:nvPr/>
        </p:nvPicPr>
        <p:blipFill>
          <a:blip r:embed="rId5"/>
          <a:stretch/>
        </p:blipFill>
        <p:spPr>
          <a:xfrm>
            <a:off x="5867280" y="4191120"/>
            <a:ext cx="1300320" cy="761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838080" y="2819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tromb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5181480" y="32004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tromp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334120" y="5257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corn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C:\Users\joann\Pictures\Microsoft Clip Organizer\j0319262.wmf"/>
          <p:cNvPicPr/>
          <p:nvPr/>
        </p:nvPicPr>
        <p:blipFill>
          <a:blip r:embed="rId6"/>
          <a:stretch/>
        </p:blipFill>
        <p:spPr>
          <a:xfrm>
            <a:off x="1447920" y="3809880"/>
            <a:ext cx="2209680" cy="1338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0"/>
          <p:cNvSpPr/>
          <p:nvPr/>
        </p:nvSpPr>
        <p:spPr>
          <a:xfrm>
            <a:off x="914400" y="5257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trom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7" action="ppaction://hlinksldjump"/>
              </a:rPr>
              <a:t>Instrumentos de me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1" action="ppaction://hlinksldjump"/>
              </a:rPr>
              <a:t>Instrumentos de v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klarinet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22360" y="1828800"/>
            <a:ext cx="2146320" cy="1225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Users\joann\Pictures\Microsoft Clip Organizer\j0129653.wmf"/>
          <p:cNvPicPr/>
          <p:nvPr/>
        </p:nvPicPr>
        <p:blipFill>
          <a:blip r:embed="rId4"/>
          <a:stretch/>
        </p:blipFill>
        <p:spPr>
          <a:xfrm>
            <a:off x="4648320" y="1219320"/>
            <a:ext cx="1076040" cy="53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joann\Pictures\Microsoft Clip Organizer\j0234373.wmf"/>
          <p:cNvPicPr/>
          <p:nvPr/>
        </p:nvPicPr>
        <p:blipFill>
          <a:blip r:embed="rId5"/>
          <a:stretch/>
        </p:blipFill>
        <p:spPr>
          <a:xfrm>
            <a:off x="380880" y="4191120"/>
            <a:ext cx="2362320" cy="1866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C:\Users\joann\Pictures\Microsoft Clip Organizer\j0352055.wmf"/>
          <p:cNvPicPr/>
          <p:nvPr/>
        </p:nvPicPr>
        <p:blipFill>
          <a:blip r:embed="rId6"/>
          <a:stretch/>
        </p:blipFill>
        <p:spPr>
          <a:xfrm>
            <a:off x="6705720" y="152280"/>
            <a:ext cx="20145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Group 10" descr=""/>
          <p:cNvPicPr/>
          <p:nvPr/>
        </p:nvPicPr>
        <p:blipFill>
          <a:blip r:embed="rId7"/>
          <a:stretch/>
        </p:blipFill>
        <p:spPr>
          <a:xfrm>
            <a:off x="341280" y="1079640"/>
            <a:ext cx="1822320" cy="185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5" descr="brass instruments,entertainment,music,musical instruments,saxophones"/>
          <p:cNvPicPr/>
          <p:nvPr/>
        </p:nvPicPr>
        <p:blipFill>
          <a:blip r:embed="rId8"/>
          <a:stretch/>
        </p:blipFill>
        <p:spPr>
          <a:xfrm>
            <a:off x="3124080" y="3581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5"/>
          <p:cNvSpPr/>
          <p:nvPr/>
        </p:nvSpPr>
        <p:spPr>
          <a:xfrm>
            <a:off x="7238880" y="2286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ga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6"/>
          <p:cNvSpPr/>
          <p:nvPr/>
        </p:nvSpPr>
        <p:spPr>
          <a:xfrm>
            <a:off x="53352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acorde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7"/>
          <p:cNvSpPr/>
          <p:nvPr/>
        </p:nvSpPr>
        <p:spPr>
          <a:xfrm>
            <a:off x="6172200" y="5943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órg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8"/>
          <p:cNvSpPr/>
          <p:nvPr/>
        </p:nvSpPr>
        <p:spPr>
          <a:xfrm>
            <a:off x="4114800" y="1828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armó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9"/>
          <p:cNvSpPr/>
          <p:nvPr/>
        </p:nvSpPr>
        <p:spPr>
          <a:xfrm>
            <a:off x="3048120" y="5486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saxof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0"/>
          <p:cNvSpPr/>
          <p:nvPr/>
        </p:nvSpPr>
        <p:spPr>
          <a:xfrm>
            <a:off x="457200" y="2438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flau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1"/>
          <p:cNvSpPr/>
          <p:nvPr/>
        </p:nvSpPr>
        <p:spPr>
          <a:xfrm>
            <a:off x="251460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clarin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7" descr="music,musical instruments,pipe organs"/>
          <p:cNvPicPr/>
          <p:nvPr/>
        </p:nvPicPr>
        <p:blipFill>
          <a:blip r:embed="rId9"/>
          <a:stretch/>
        </p:blipFill>
        <p:spPr>
          <a:xfrm>
            <a:off x="5638680" y="2971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1" action="ppaction://hlinksldjump"/>
              </a:rPr>
              <a:t>Instrumentos de cue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gt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1066680" cy="195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en1237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1219320"/>
            <a:ext cx="1143000" cy="1928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joann\Pictures\Microsoft Clip Organizer\j0305301.wmf"/>
          <p:cNvPicPr/>
          <p:nvPr/>
        </p:nvPicPr>
        <p:blipFill>
          <a:blip r:embed="rId6"/>
          <a:stretch/>
        </p:blipFill>
        <p:spPr>
          <a:xfrm rot="1045800">
            <a:off x="7120080" y="998640"/>
            <a:ext cx="850680" cy="187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joann\Pictures\Microsoft Clip Organizer\j0331519.wmf"/>
          <p:cNvPicPr/>
          <p:nvPr/>
        </p:nvPicPr>
        <p:blipFill>
          <a:blip r:embed="rId7"/>
          <a:stretch/>
        </p:blipFill>
        <p:spPr>
          <a:xfrm>
            <a:off x="6095880" y="358128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violin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4565520"/>
            <a:ext cx="1371600" cy="95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ellos,entertainment,music,musical instruments,stringed instruments"/>
          <p:cNvPicPr/>
          <p:nvPr/>
        </p:nvPicPr>
        <p:blipFill>
          <a:blip r:embed="rId10"/>
          <a:stretch/>
        </p:blipFill>
        <p:spPr>
          <a:xfrm rot="21040800">
            <a:off x="3276360" y="36572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380880" y="1295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guita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752480" y="30481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guitarra eléct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49568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cua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647712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ban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838080" y="5638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viol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3200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violonch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934320" y="6019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ar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2_2003">
            <a:hlinkClick r:id="rId11"/>
          </p:cNvPr>
          <p:cNvPicPr/>
          <p:nvPr/>
        </p:nvPicPr>
        <p:blipFill>
          <a:blip r:embed="rId12"/>
          <a:stretch/>
        </p:blipFill>
        <p:spPr>
          <a:xfrm rot="1325400">
            <a:off x="4628880" y="2131920"/>
            <a:ext cx="114300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1" action="ppaction://hlinksldjump"/>
              </a:rPr>
              <a:t>Instrumentos de per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C:\Users\joann\Pictures\Microsoft Clip Organizer\j0319318.wmf"/>
          <p:cNvPicPr/>
          <p:nvPr/>
        </p:nvPicPr>
        <p:blipFill>
          <a:blip r:embed="rId2"/>
          <a:stretch/>
        </p:blipFill>
        <p:spPr>
          <a:xfrm>
            <a:off x="4038480" y="1905120"/>
            <a:ext cx="1600200" cy="1587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Users\joann\Pictures\Microsoft Clip Organizer\j0329308.wmf"/>
          <p:cNvPicPr/>
          <p:nvPr/>
        </p:nvPicPr>
        <p:blipFill>
          <a:blip r:embed="rId3"/>
          <a:stretch/>
        </p:blipFill>
        <p:spPr>
          <a:xfrm>
            <a:off x="7031160" y="1523880"/>
            <a:ext cx="97920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Users\joann\Pictures\Microsoft Clip Organizer\j0352028.wmf"/>
          <p:cNvPicPr/>
          <p:nvPr/>
        </p:nvPicPr>
        <p:blipFill>
          <a:blip r:embed="rId4"/>
          <a:stretch/>
        </p:blipFill>
        <p:spPr>
          <a:xfrm>
            <a:off x="3048120" y="5334120"/>
            <a:ext cx="990360" cy="121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C:\Users\joann\Pictures\Microsoft Clip Organizer\j0319288.wmf"/>
          <p:cNvPicPr/>
          <p:nvPr/>
        </p:nvPicPr>
        <p:blipFill>
          <a:blip r:embed="rId5"/>
          <a:stretch/>
        </p:blipFill>
        <p:spPr>
          <a:xfrm>
            <a:off x="533520" y="4572000"/>
            <a:ext cx="145080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_emu109"/>
          <p:cNvPicPr/>
          <p:nvPr/>
        </p:nvPicPr>
        <p:blipFill>
          <a:blip r:embed="rId6"/>
          <a:stretch/>
        </p:blipFill>
        <p:spPr>
          <a:xfrm>
            <a:off x="838080" y="1371600"/>
            <a:ext cx="2743200" cy="23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z2419"/>
          <p:cNvPicPr/>
          <p:nvPr/>
        </p:nvPicPr>
        <p:blipFill>
          <a:blip r:embed="rId7"/>
          <a:stretch/>
        </p:blipFill>
        <p:spPr>
          <a:xfrm>
            <a:off x="5029200" y="342900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990720" y="37339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bat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3808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tam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2362320" y="457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s platil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4038480" y="1295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xilóf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6172200" y="2514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pander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29200" y="5791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p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ás instrumentos de per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güiro"/>
          <p:cNvPicPr/>
          <p:nvPr/>
        </p:nvPicPr>
        <p:blipFill>
          <a:blip r:embed="rId1"/>
          <a:stretch/>
        </p:blipFill>
        <p:spPr>
          <a:xfrm>
            <a:off x="1371600" y="2133720"/>
            <a:ext cx="84780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MCSO01766_0000[1]"/>
          <p:cNvPicPr/>
          <p:nvPr/>
        </p:nvPicPr>
        <p:blipFill>
          <a:blip r:embed="rId2"/>
          <a:stretch/>
        </p:blipFill>
        <p:spPr>
          <a:xfrm>
            <a:off x="6705720" y="2057400"/>
            <a:ext cx="122868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ongas"/>
          <p:cNvPicPr/>
          <p:nvPr/>
        </p:nvPicPr>
        <p:blipFill>
          <a:blip r:embed="rId3"/>
          <a:stretch/>
        </p:blipFill>
        <p:spPr>
          <a:xfrm>
            <a:off x="5410080" y="3962520"/>
            <a:ext cx="1219320" cy="181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DD00546_0000[1]"/>
          <p:cNvPicPr/>
          <p:nvPr/>
        </p:nvPicPr>
        <p:blipFill>
          <a:blip r:embed="rId4"/>
          <a:stretch/>
        </p:blipFill>
        <p:spPr>
          <a:xfrm>
            <a:off x="2057400" y="4343400"/>
            <a:ext cx="1533600" cy="110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astan"/>
          <p:cNvPicPr/>
          <p:nvPr/>
        </p:nvPicPr>
        <p:blipFill>
          <a:blip r:embed="rId5"/>
          <a:stretch/>
        </p:blipFill>
        <p:spPr>
          <a:xfrm>
            <a:off x="3962520" y="2743200"/>
            <a:ext cx="1104840" cy="1285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106668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gü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24852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s mara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105520" y="5791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co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752480" y="5562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s bongó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2971800" y="1828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s castañu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1:31:04Z</dcterms:created>
  <dc:creator>joann</dc:creator>
  <dc:description/>
  <dc:language>en-US</dc:language>
  <cp:lastModifiedBy>Windows User</cp:lastModifiedBy>
  <dcterms:modified xsi:type="dcterms:W3CDTF">2011-02-14T07:58:00Z</dcterms:modified>
  <cp:revision>12</cp:revision>
  <dc:subject/>
  <dc:title>Slide 1</dc:title>
</cp:coreProperties>
</file>